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8AB0-CC11-4A28-84EE-CACEA9935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F8B3-D6FD-4C09-BB52-87E443EAD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4-</a:t>
            </a:r>
            <a:fld id="{8D5AEE9B-4A34-42E2-B393-19803D27FA37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b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der and Overallocate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0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[$40 x 27,000 hours]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97180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3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4305240" y="87588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0"/>
                </a:lnTo>
                <a:cubicBezTo>
                  <a:pt x="10800" y="9890"/>
                  <a:pt x="5400" y="10790"/>
                  <a:pt x="0" y="10790"/>
                </a:cubicBezTo>
                <a:cubicBezTo>
                  <a:pt x="5400" y="10790"/>
                  <a:pt x="10800" y="11690"/>
                  <a:pt x="10800" y="1259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114800"/>
            <a:ext cx="8229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write-off over or under-allocated overhead to cost of goods sold at the end of the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rating the difference among the ending inventory and cost of goods sold accounts can be done if the amount is material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5 - 19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in the Service Indus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direct labour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4,4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,9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direct professional labour-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88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8 - 12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28954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direct labour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4,400,000 / 288,000 = $50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2,960,000 / 288,000 = $45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724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an Aud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  ($50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($45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 Termin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thing for which a separate measurement of costs is desi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that are related to a particular cost object in an economically feasible (Cost-effective) mann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grouping of individual cost ite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that is the common denominator for systematically linking an indirect cost or group of indirect costs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8 - 1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distinct unit or bat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expended to bring a distinct product or service to market for a specific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 campaign, audit, aircraft assemb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447920"/>
            <a:ext cx="449568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75248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mass of similar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used to mass-produce a product or service and not for any specific 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stal delivery, oil refin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9 - 1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cost object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0- 1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765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direct costs for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ect cost-allocation bases to use in allocating th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indirect costs associated with each cost-allocation bas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rate per unit of each cost-allocation base to allocat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indirect costs allocated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cost of the cost object(s) by adding the direct an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590920" cy="7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219320"/>
            <a:ext cx="4647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038480" y="3200400"/>
            <a:ext cx="4907160" cy="1235160"/>
            <a:chOff x="4038480" y="3200400"/>
            <a:chExt cx="4907160" cy="1235160"/>
          </a:xfrm>
        </p:grpSpPr>
        <p:sp>
          <p:nvSpPr>
            <p:cNvPr id="67" name=""/>
            <p:cNvSpPr/>
            <p:nvPr/>
          </p:nvSpPr>
          <p:spPr>
            <a:xfrm>
              <a:off x="4038480" y="3657600"/>
              <a:ext cx="4907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4000"/>
            </a:bodyPr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5 per direc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nufacturing Labour Hour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120" y="3200400"/>
              <a:ext cx="0" cy="380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62120" y="4495680"/>
            <a:ext cx="7772400" cy="1752840"/>
            <a:chOff x="762120" y="4495680"/>
            <a:chExt cx="7772400" cy="1752840"/>
          </a:xfrm>
        </p:grpSpPr>
        <p:sp>
          <p:nvSpPr>
            <p:cNvPr id="70" name=""/>
            <p:cNvSpPr/>
            <p:nvPr/>
          </p:nvSpPr>
          <p:spPr>
            <a:xfrm>
              <a:off x="6477120" y="4495680"/>
              <a:ext cx="0" cy="3812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563868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24280" y="4952880"/>
              <a:ext cx="3810240" cy="1219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Object: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+ Indirect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5334120"/>
              <a:ext cx="2590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Labou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594360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276720" y="12193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1 - 11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2057400"/>
            <a:ext cx="8539200" cy="1066680"/>
            <a:chOff x="609480" y="2057400"/>
            <a:chExt cx="8539200" cy="1066680"/>
          </a:xfrm>
        </p:grpSpPr>
        <p:sp>
          <p:nvSpPr>
            <p:cNvPr id="78" name=""/>
            <p:cNvSpPr/>
            <p:nvPr/>
          </p:nvSpPr>
          <p:spPr>
            <a:xfrm>
              <a:off x="609480" y="2286000"/>
              <a:ext cx="25909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marL="298440" indent="-29844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llocation Bas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2362320"/>
              <a:ext cx="5262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marL="315360" indent="-315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7,000 Direct Manufacturing Labour-Hours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77120" y="2057400"/>
              <a:ext cx="0" cy="304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2286000"/>
              <a:ext cx="304560" cy="8380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Period for Indirect-Cost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ually calculate indirect-cost rates once each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a yearly rate because using a shorter period of time (such as monthly or quarterly) would cause the rate to be higher or lower at different times during the year due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sonality of costs (higher heating costs in the winter month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uctuating volumes (units produced in low volume months would be charged a greater cost)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5 - 1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al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osting is a method that traces  direct costs to a cost objec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Budgeted total cost in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total quantity of the cost-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6 - 1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6576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 company budgets for manufacturing overhead of $1,280,000 and direct manufacturing labour-hours of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0292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1,280,000 /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40 per direct manufacturing labour-hour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System in Manufactu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086240" y="236196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88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10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Work-In-Process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36232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86000"/>
            <a:ext cx="0" cy="12193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50532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4956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3341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057400" y="3733560"/>
            <a:ext cx="1447920" cy="11430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86000" y="4038480"/>
            <a:ext cx="1219320" cy="1524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505320"/>
            <a:ext cx="15238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124080"/>
            <a:ext cx="144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el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8 - 1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rect Costs and End-of-Period Adjus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 the end of the period, there is usually a difference between indirect costs incurred and indirect costs allocated to work-in-process during the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4 - 12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0594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983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74320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 allocation rate x actual volume of wor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886200"/>
            <a:ext cx="883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0:15:28Z</dcterms:created>
  <dc:creator>User</dc:creator>
  <dc:description/>
  <dc:language>en-US</dc:language>
  <cp:lastModifiedBy>John Moore</cp:lastModifiedBy>
  <cp:lastPrinted>1999-06-03T01:59:16Z</cp:lastPrinted>
  <dcterms:modified xsi:type="dcterms:W3CDTF">2003-03-22T13:11:06Z</dcterms:modified>
  <cp:revision>12</cp:revision>
  <dc:subject/>
  <dc:title>No Slide Title</dc:title>
</cp:coreProperties>
</file>